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727-730B-4FBD-BD70-7EAEB941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70A-115A-4E4B-8332-7C3ADC10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F81-7263-4B15-B281-B484BB0A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31E-32B2-47E2-B745-8D01ED9A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A711E-8684-408B-9342-0B0284C7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BB065-9AEB-4F82-BA5F-28248EEA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F77D0-4D38-4002-A56E-0B5E1E2D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45914-0775-473C-AB91-B37ACB3E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3F373-FE78-439E-94B6-A624BB48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49ACF-7992-4F81-BFC4-8D0D68DF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47200-F979-48BC-8A92-C43C8CA4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8EF-E40F-4A6C-B1F6-6F23A2E4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30C4A-88D6-4D2E-8474-AC65260D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EF913-C2F2-49E0-9B1B-E2159C70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582C0-AECD-4BBF-AD68-C5985CB1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6DD7D-FF3A-4050-91C9-753F8557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99134-85D9-49F6-93D1-F66627D5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00E-0AC7-4832-B616-C984AAB7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A51-8B20-42DD-8B32-03D46697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A8C-3663-4C89-B048-D0B3216D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702-F214-44E2-824F-FCDC6F9F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24B-8223-4818-967B-C580AD60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359-505D-43A9-AF0B-39B7D86E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576-DA7B-4230-A40E-429D43E7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4BAD-0609-4363-B6C5-59E1CF804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33CD-BB77-4EC6-92B6-A47704B2F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library.ru/" TargetMode="External"/><Relationship Id="rId3" Type="http://schemas.openxmlformats.org/officeDocument/2006/relationships/hyperlink" Target="http://www.kostyor.ru/" TargetMode="External"/><Relationship Id="rId4" Type="http://schemas.openxmlformats.org/officeDocument/2006/relationships/hyperlink" Target="http://www.maly.ru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Луч света в темном царстве. Права ли была Катерина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Сокотун Мария Валентиновна, студентк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урса, фил.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Основополагающий вопрос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ывают ли безвыходные ситуа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роблемный вопрос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привело Катерину к самоубийству (каковы причины этого поступка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ыл ли выход из этой ситуации у героин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автор показывает эту пробл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Дидактические цели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твратить суицидальные настроения среди учащихся 10х клас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пытка найти решение из безвыходной ситу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Представление результатов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исследован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и докла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чинение, э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кл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эб-сай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родолжительность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Время выполне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две нед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оличество часов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оличество уроков: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Этапы проведения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бор, формулировка 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иск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остоятельная работа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щита про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Информационные ресурс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филактика суицидального поведения у детей и подростков. Методические рекомендации. Сыктывкар, 2002. Составитель Рожицина А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ай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/>
              </a:rPr>
              <a:t>http://ilibrary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kostyor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http://www.maly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12T08:54:1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